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2F8-8178-4767-9534-E0E00CCC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64C-0918-4B98-90CB-F2EFCA75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7E62-9330-41A4-B6D3-2DEA820F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8B30-776E-48B2-970B-0E875FF8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FD5-0417-4396-9A4A-E6A1366B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AF7-56A1-4C9A-B4DC-E03D9778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A28-2FAC-4D53-B53B-5EB43ED6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3E5A-295B-4BBB-80A0-8A91E5E2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B623-F175-4717-9A50-BB9DA439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4A0-BD1B-492D-B1B7-4A92C28A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F4E-D1FD-4299-9EC1-66067C74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F46-2BC4-46CD-8E70-F638A416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1952-1CF3-45CE-AA13-A25DFA321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2:17:21Z</dcterms:created>
  <dc:creator>Patrick J. Mooney</dc:creator>
  <dc:description/>
  <dc:language>en-US</dc:language>
  <cp:lastModifiedBy>Patrick J. Mooney</cp:lastModifiedBy>
  <dcterms:modified xsi:type="dcterms:W3CDTF">2011-09-27T02:20:16Z</dcterms:modified>
  <cp:revision>1</cp:revision>
  <dc:subject/>
  <dc:title>Slide 1</dc:title>
</cp:coreProperties>
</file>